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A41-F4BE-4A24-BEC8-F7348EB3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F2D-B154-4A01-84EF-A67355A1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564-B0E6-4604-8999-B9BD7DDA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748-87AC-4FFB-923C-34A85353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4B0-90DE-45A3-8678-32298439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A45-3620-4075-92E2-B0EAE9F0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B98-4560-4BC1-92EC-0E7F347E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8E8-842A-4C6D-B477-21AE0066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788-3B92-4158-A87D-7A81D89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C3E-B8DF-4C92-8666-BD889C00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45E-DF19-4582-8D54-D39CEB9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5A7-F7BE-4450-BCD1-0EE4A029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351F-3056-4CDD-9F43-F37C185B5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eudal Pyramid"/>
          <p:cNvPicPr/>
          <p:nvPr/>
        </p:nvPicPr>
        <p:blipFill>
          <a:blip r:embed="rId1"/>
          <a:stretch/>
        </p:blipFill>
        <p:spPr>
          <a:xfrm>
            <a:off x="0" y="0"/>
            <a:ext cx="254628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3200400" y="0"/>
            <a:ext cx="4952880" cy="45972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ringer 1/3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2286000" y="609480"/>
            <a:ext cx="6858000" cy="580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 on a small sheet of paper (share with a neighbor).  Make sure to put your name in the upper right hand corne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2514600" y="1442880"/>
            <a:ext cx="662940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of the following is NOT a reason for the fall of the Roman Empire and the creation of feudalism in medieval Western Europ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asions of Germanic tribes traveling We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ructuring of the Roman seat of power to the Byzantine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entralization of power due to the collapse of Papal authority within the Vati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king raiders plundering coastal villages and manors looking for crops and livable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feudalis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ystem of landholding and governing during the Middle Ages of We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social structure created by the Roman Catholic Church to ensure the survival of the Holy Roman 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ormation of towns and villages by medieval merchants looking to end serf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de explaining the duties of Christian knights and their L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2:25:51Z</dcterms:created>
  <dc:creator>System Administrator</dc:creator>
  <dc:description/>
  <dc:language>en-US</dc:language>
  <cp:lastModifiedBy>admin</cp:lastModifiedBy>
  <dcterms:modified xsi:type="dcterms:W3CDTF">2012-01-03T12:44:22Z</dcterms:modified>
  <cp:revision>1</cp:revision>
  <dc:subject/>
  <dc:title>PowerPoint Presentation</dc:title>
</cp:coreProperties>
</file>